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3F9-EA34-4268-A8F4-18BC55F6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7303-C98A-4D82-86EA-14FA0CD2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74F-C04A-4CFE-83D5-214B097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943-E20C-46BE-A46D-4D219EF0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F4D-674F-41B2-A272-35E02AF4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E6E-05DD-4EB1-8602-9C5727F7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761-614D-4247-A8AD-EC6CDA26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293-39CE-4EA8-8F0A-3231069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CE7-EE32-4F14-9CDC-20E0DB08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22E-0739-4703-9573-CA721251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3FC-6E05-4036-8D66-6EF0F6E9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513-6404-405D-816E-65657063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CC3-13E5-45B2-B053-DA20B68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3FD-1C4E-4FFE-9903-7AF643E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257E-1BBE-45B7-995F-02A37BA84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sario Herna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osario Hernan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osario Hernandez (1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8195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819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osario Hernand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31240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osario Hernand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438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dg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llamo Rosario y tengo 14 años. Yo vivo en Nueva York con mis padres y mis hermanos. Mi hermana se llama Guadalupe y mi hermano Alexis. Yo soy feliz y divert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08080" y="5254560"/>
            <a:ext cx="37152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0640" y="5254560"/>
            <a:ext cx="371520" cy="944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237960" y="5937120"/>
            <a:ext cx="33516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ile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sl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Ros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tambien estoy bien. Dime algo de ti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Lesle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Rosario! ¿Muy bien 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Ros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¿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e gusta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Les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 amigos! ¿Como estan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844560" y="6324480"/>
            <a:ext cx="45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8:23Z</dcterms:created>
  <dc:creator>FriscoISD</dc:creator>
  <dc:description/>
  <dc:language>en-US</dc:language>
  <cp:lastModifiedBy>NYCDOE</cp:lastModifiedBy>
  <dcterms:modified xsi:type="dcterms:W3CDTF">2012-12-05T14:15:42Z</dcterms:modified>
  <cp:revision>101</cp:revision>
  <dc:subject/>
  <dc:title>Profile</dc:title>
</cp:coreProperties>
</file>